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4BE0-2CD9-45E4-B85C-B2EC78BE4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18E7-3800-4C74-84FE-2D6922BD3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627F-2736-4C7C-86F2-8DF65DD69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CC1E-68DB-4414-843C-0D0820694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D0AA-9314-44CE-87BD-11FC608864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8BD4-BB64-4F3A-94DF-912BBA688A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B84F-649D-459F-9B35-258CCA6C86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5146-F6F2-43DE-88B7-BBA9D22492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7A91-113F-4D8E-8C5D-8BD45B665D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2427-0E2C-4DA6-AD0D-CEB0BE9A7F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B44E-2364-4F62-8A52-20216C21C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3D69-64B4-4F9E-B851-0734C62E3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0BBB-3557-42EE-BE1E-DDBC4B8C03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44CA-0BFB-4BBB-B8BE-2CAD7014AC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4596-00B3-44DB-A2B2-5DF8443145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2481-9AA7-490F-84EA-C8D332E4E0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6767-8FF0-40EC-9C1B-F00BE6F3F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EB86-0E05-4D64-AE69-2E64DEC10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CBBB-C805-4408-994C-F647F4F70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BE02-7A40-4053-BC97-3C8A414B7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E397-4D74-4D2C-B155-CA0F7BF4B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439B-EBFA-4362-BACF-950E37A93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24C2-8C76-4F44-8409-BB123C0B5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385D-EC21-4DCD-81EB-B94A003E8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232-60DE-4876-83E2-31BC5DD770E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B93-B62B-4256-AD0C-E6EFE5BF5F64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7721-803C-42D1-B796-90B9881090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투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rojection) 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시변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ewing Transfor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ew Plane, Projection Plan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관찰자 위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ew Point, Eye Positi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 위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amera Position) =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투상중심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COP: Center of Projection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좌표계 원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rigin of VC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rojectors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곳곳을 향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ine of Sight) : WCS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점 또는 초점을  향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rojection Plane, View Plan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432108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6078-D2EE-4375-9D71-C8476EA592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가시부피에 의한 평행투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장면의 범위를 지정할 필요성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가시부피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View Volume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전방 절단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Near Clipping Plane, Near Plane, Front Plane, Hithe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후방 절단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Far Clipping Plane, Far Plane, Back Plane, Y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Ortho(GLdouble left, GLdouble right, GLdouble bottom, GLdouble top, GLdouble near, GLdouble far)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3960720" cy="218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148360" y="2565360"/>
            <a:ext cx="285732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DD98-E5ED-4F08-A792-B6B9C7F5AD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정규화 가시부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정규화 가시부피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CVV: Canonical View Volu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세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높이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 정육면체로 투상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규화 변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Normalization Transfor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행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근투상을 동일한 모습의 정규화 가시부피로 변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동일 파이프라인 사용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육면체를 기준으로 하면 연산이 간단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양한 해상도의 화면 좌표계로 변환하기가 간단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71640" y="3630600"/>
            <a:ext cx="5840280" cy="23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98D5-4DF7-4C43-A126-F13BC60D93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정규화 가시부피 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체에 대한 이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크기조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반사변환으로 간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on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규화 가시부피는 왼손좌표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결과적인 좌표계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zh-CN" sz="1800" spc="-1" strike="noStrike">
                <a:solidFill>
                  <a:srgbClr val="ff3300"/>
                </a:solidFill>
                <a:latin typeface="Verdana"/>
              </a:rPr>
              <a:t>절단 좌표계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CCS: Clip Coordinate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3280" y="836640"/>
            <a:ext cx="5977080" cy="239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348000" y="3203640"/>
            <a:ext cx="2664000" cy="150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403280" y="3716280"/>
            <a:ext cx="2016360" cy="114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1403280" y="4581360"/>
            <a:ext cx="1851120" cy="64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84720" y="3213000"/>
            <a:ext cx="2159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D882-93BB-4025-A0CA-95874B6FD1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원근투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 원근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' : (-d) = x : (-z), y' : (-d) = y : (-z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824120"/>
            <a:ext cx="4681440" cy="2449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4602240"/>
            <a:ext cx="5616360" cy="207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508720" y="1484280"/>
            <a:ext cx="2628720" cy="1515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580000" y="2852640"/>
            <a:ext cx="2895840" cy="22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446E-3616-4E7C-BD6F-DEAD33827A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원근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원근분할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Perspective Division, Homogeniz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동차좌표의 마지막 요소로 이전 요소를 나누는 작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단이 동차좌표에서 이루어지기 때문에 절단 이후로 미루어 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근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어파인 변환이 아님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:  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마지막 행이 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(0, 0, 0, 1)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이 아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차원 좌표관점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:  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  <a:ea typeface="소망M"/>
              </a:rPr>
              <a:t>x' = x/(z/d): </a:t>
            </a:r>
            <a:r>
              <a:rPr b="0" lang="ko-KR" sz="1800" spc="-1" strike="noStrike">
                <a:solidFill>
                  <a:srgbClr val="ff3300"/>
                </a:solidFill>
                <a:latin typeface="소망M"/>
              </a:rPr>
              <a:t>비선형 변환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  <a:ea typeface="소망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차원 동차좌표 관점</a:t>
            </a:r>
            <a:r>
              <a:rPr b="0" lang="ko-KR" sz="1800" spc="-1" strike="noStrike">
                <a:solidFill>
                  <a:srgbClr val="000000"/>
                </a:solidFill>
                <a:latin typeface="소망M"/>
              </a:rPr>
              <a:t>: </a:t>
            </a:r>
            <a:r>
              <a:rPr b="0" lang="ko-KR" sz="1800" spc="-1" strike="noStrike">
                <a:solidFill>
                  <a:srgbClr val="ff3300"/>
                </a:solidFill>
                <a:latin typeface="소망M"/>
              </a:rPr>
              <a:t>선형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19280" y="2276640"/>
            <a:ext cx="723960" cy="102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987640" y="1989000"/>
            <a:ext cx="898560" cy="1501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547640" y="5084640"/>
            <a:ext cx="4830840" cy="10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4436-84EF-40A5-9608-22591C44F5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정규화 가시부피에 의한 원근투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단 사각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Frustum) 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두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403236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258920" y="4325760"/>
            <a:ext cx="2952720" cy="2092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427640" y="4292640"/>
            <a:ext cx="3024000" cy="21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A224-128C-47D8-8050-0056BE33F2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원근투상과 평행투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3384360" cy="240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31308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AE2A-4CA7-4B10-944C-3C38A7BC1B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가시부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가시부피 설정에 의한 절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3744720" cy="2655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88000" y="1916280"/>
            <a:ext cx="374472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5866-F4A7-480B-AD12-E7F906DEB7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원근투상의 정규화 가시부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489720" cy="263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9640" y="3500280"/>
            <a:ext cx="712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E238-6BD2-499D-8B13-57B48BE0C6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원근투상의 정규화 가시부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일반적 형태의 가시부피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: void glFrustum(GLdouble left, GLdouble right, GLdouble bottom, GLdouble top, GLdouble near, GLdouble far)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5975280" cy="2986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32000" y="1628640"/>
            <a:ext cx="5256000" cy="16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D7DF-AC3D-44FE-A381-71DE87BC75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평행투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Parallel Proj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이 물체로부터 무한대의 거리에 있다고 간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선이 평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래 물체의 평행선은 투상 후에도 평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과의 거리에 무관하게 같은 길이의 물체는 같은 길이로 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사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측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사투상 등으로 분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08000" y="1341360"/>
            <a:ext cx="431964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1F62-69D6-472A-B7AD-06A1B8E2B8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원근투상의 정규화 가시부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방 절단면에 비해 후방 절단면이  줄어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멀리 있는 것이 작게 보야야 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행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값에 영향을 미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래의 물체 정점의 깊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 정규화 변환 후의 물체 정점의 깊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'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관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5738760" cy="2081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5159520" cy="14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B717-E49A-4AB0-A854-5384301664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시점 좌표계에서 절단 좌표계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높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멀어질수록 전봇대 높이가 낮아짐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원근변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191280" cy="1702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76360" y="3573360"/>
            <a:ext cx="6037200" cy="164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5297-A3B3-4566-81AF-C51745AEBD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시점 좌표계에서 절단 좌표계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간격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더욱 촘촘해 짐에 유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비선형 변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전방 절단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시점에서 멀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체에 최대한 근접시켜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체간격이 상대적으로 보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지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버퍼 처리에 유리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5256360" cy="3400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979640" y="1197000"/>
            <a:ext cx="2789280" cy="8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9EB2-2403-4964-A76A-41879CECC6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대칭적 원근투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uPerspective(GLdouble fov, GLdouble aspect, GLdouble near, GLdouble far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시야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FOV: Field of View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 방향의 시야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0 -180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 방향의 시야는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종횡비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Aspect Ratio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 의해 결정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폭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높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5329080" cy="37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9421-0555-4064-BE43-6038ADA561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시야각과 카메라 렌즈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초점 거리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50mm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각렌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Wide Angle Lens) : 50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다 작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망원렌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elescope Lens) : 50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다 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20mm = 85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도 시야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85mm = 24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도 시야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03280" y="2540160"/>
            <a:ext cx="2881440" cy="20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356000" y="2541600"/>
            <a:ext cx="2880000" cy="2041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2881440" cy="2041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4680000"/>
            <a:ext cx="2880000" cy="20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ED5A-5955-4D3F-9FD2-45891E3107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엘 파이프라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416720" cy="53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AC05-4BC0-45D3-94FD-63965A5820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뷰포트 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정규화 장치좌표계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NDCS: Normalized Device Coordinate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단 이후 원근분할에 의해 물체 정점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좌표로 변환한 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x', y', z', 1) = (x/w, y/w, z/w, 1)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뷰포트 변환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Viewport Transformation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규화 장치좌표계에서 화면 좌표계로 가는 작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화면 좌표계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SCS: Screen Coordinate System),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뷰포트 좌표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ewport Coordinate System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윈도우 좌표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Window Coordinate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692360" y="3933720"/>
            <a:ext cx="4751280" cy="19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847B-E1FC-43D0-ADA0-738C00F2C9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뷰포트 설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Viewport(GLint left, GLint bottom, GLsizei width, GLsizei height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79640" y="1197000"/>
            <a:ext cx="5834160" cy="2328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35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693396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A0AD-3E33-44B7-8CE8-5FB500EC87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값의 재 정규화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규화 가시부피에서의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값의 범위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-1, +1]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사이를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0, 1]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사이로 사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점 사이의 상대적인 깊이는 유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규화 가시부피를 원점을 중심으로 해서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축 방향으로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/2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만큼 크기조절 변환을 가한 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z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방향으로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/2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만큼 이동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256000" cy="25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BB8C-EDF0-4EA2-B14C-E4DE1C8D6A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가시부피와 뷰포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00720" cy="34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EAA4-60FA-461F-B270-6486114F5B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정사투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Orthographic Projection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면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입면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측면도 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 평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rincipal Plane): MC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주축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, y, 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 의해 형성되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-y, y-z, z-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은 주 평면 중 하나와 평행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선은 투상면과 직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래 물체의 길이를 정확히 보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공학도면에 사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선이 반드시 투상면과 직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위치가 제한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33116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241800" cy="20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C497-DF81-430A-8874-0364AA157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축측투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Axonometric Projection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한꺼번에 여러 면을 보여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선은 투상면과 직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이 주평면들과 평행하지 않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 방향으로 서로 다른 축소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사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삼각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삼중형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, Trimetr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이 임의의 위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양각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이중형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, Dimetr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의 주 평면에 대해서 대칭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의 축 방향에 대해 동일 축소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등각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동형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, Isometri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의 주 평면이 만나는 모서리에서 모든 평면에 대해 대칭적으로 놓일 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의 축 방향에 대해 동일 축소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등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양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4464000" cy="21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97DB-003A-4B3E-B808-DCDD77195B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경사투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Oblique Projection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선끼리는 평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은 시선에 수직이지만 투상선과 직교하지 않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고개는 돌리지 않고 눈동자만 돌려서 보는 것과도 흡사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484360" y="2492280"/>
            <a:ext cx="352764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63E9-D60C-498A-8380-11A1F7570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원근투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Perspective Proj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이 물체로부터 유한한 거리에 있다고 간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선이 시점에서 출발하여 방사선 모양으로 퍼져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나 사람의 눈이 물체를 포착하는 방법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124000" y="3284640"/>
            <a:ext cx="4581720" cy="19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4B9B-3F59-43FA-B6C7-185999E61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원근투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Perspective Proj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Verdana"/>
              </a:rPr>
              <a:t>원근감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Depth Feeling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동일한 크기의 물체라도 시점으로부터 멀리 있는 것은 작게 보이고 가까운 것은 크게 보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578400" cy="1465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88000" y="2781360"/>
            <a:ext cx="3457440" cy="240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EFE7-7FC0-47C6-B4A2-AF393F7B1D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원근투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(Perspective Proj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소실점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VP: Vanishing Point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근투상 결과 평행선이 만나는 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 높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소실점의 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점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ne-point Projectio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점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wo-point Projectio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삼점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hree-point Projec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원근변환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Perspective Transfor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정점간의 거리에 대한 축소율이 달라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(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파인 변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649680" cy="183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859280" y="4941720"/>
            <a:ext cx="3600360" cy="114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9A50-4361-4883-999F-61BFA4BD77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평행투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void glMatrixMode(GL_PROJECTIO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 평행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 좌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역 좌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 좌표 순서로 변환된 상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, P'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은 시점 좌표계 기준의 좌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거리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 무관하게 동일한 모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특이변환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Singular Transformation):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역변환이 없는 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x, y, z, 1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x, y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만 읽어내면 그것이 투상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좌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깊이 정보를 활용하기 위해서 지엘은 이러한 변환을 가하지 않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결과 여전히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좌표가 유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14920" y="1341360"/>
            <a:ext cx="4105080" cy="1841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9640" y="2349360"/>
            <a:ext cx="432144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BBAB-00D9-4EEE-A96A-ADBEF4D1CD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11-08T03:35:55Z</dcterms:modified>
  <cp:revision>528</cp:revision>
  <dc:subject/>
  <dc:title>PowerPoint 프레젠테이션</dc:title>
</cp:coreProperties>
</file>